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ED80-9026-4043-8542-4395847E59A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E94B-7A69-4C5D-B443-EA3DEAABCB42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F9D-884B-453D-B336-4EA91FAD6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97A9-A3EC-464B-98E8-AF2D3000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FB5-EDAB-480B-963D-6D6DDD8D8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A76-4D4E-411C-9C64-2C428AEB5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F87E-6D3D-471E-8DB3-BFFB4755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44D5-734A-425F-9C08-8D89C4C57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CB22-FE6B-4FD9-A12E-316C894F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4886-D140-4E7F-8F70-92A61859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8FD67-FBE2-4879-9941-E839CB8D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8598-F5F9-4C65-B84E-4A75C335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7F46-93B5-4B77-A926-0AB48A9B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0903-0539-4D77-BC15-00ABDD09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9DA3-386B-498B-B68B-2668123A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D02E-333B-4B96-9405-2300FC79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4D10-F4D8-4840-B038-A882B059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217F-4B99-4B69-8046-FED06B0F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8DEB-0751-40B2-9D0F-E30E8ED1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118-76BA-4E43-908A-497BDBEB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09A2-F921-4AE3-BD18-68C085FB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AC6B-F6CF-4075-822B-F3566517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B91-9888-48DE-A05C-90769459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E05-6581-4408-B0F8-73D37F75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3BB-A811-4488-94CB-77A9001E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6A6-99D1-46DD-AA7C-D3F5AFD0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FBDE-02BE-4B1B-B33E-FE8E6A749B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prstGeom prst="pie">
              <a:avLst/>
            </a:pr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prstGeom prst="pie">
              <a:avLst/>
            </a:pr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prstGeom prst="pie">
              <a:avLst/>
            </a:pr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prstGeom prst="pie">
              <a:avLst/>
            </a:pr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07C7-1C53-4837-9708-9E71AB4F27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b9efee"/>
                </a:solidFill>
                <a:latin typeface="Garamond"/>
              </a:rPr>
              <a:t>PABLO EMILIO CARDONA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UNA INSTITUCION PARA TODOS EN EL MARCO DE LA DIVER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LA EVALUACIÓN SERÁ PARTICIPATIV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VALUACIÓN: (% 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UTOEVALUACIÓN: (% 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HETEROEVALUACIÓN: (% 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OMITÉ DE EVALUACIÓN Y PROMOCIÓ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 NOMBRADO POR EL CONSEJO ACADÉMICO Y ESTARÁ CONFORMADO P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PROMOCIÓ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e promueven todos los estudiantes que hayan perdido  hasta 2 áreas, excepto en grados 1ro y 2do donde se pierde el año reprobando Español y matemáticas (a éste grupo de estudiantes de todos modos se les da la oportunidad de recuperar las áreas perdidas en enero del año siguiente, quienes saldrán a vacaciones con un trabajo por desarrollar (Temario ó cuestionario en el caso de bachillerato y guías en el caso de primaria); igualmente podrán recuperar en éste periodo del año las materias pendientes de años anteriores que no hayan podido supera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PROMOCIÓN (CONTINUACIÓN)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estudiantes con dificultades cognitivas detectadas, invidentes y baja visión, tendrán las consideraciones especiales del consejo académico, realizándoles adecuaciones curriculares y acompañamiento  por parte de sus padr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ROMOCIÓN ANTICIPAD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ROMOCIÓN POSTERIOR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HOMOLOGACION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estudiantes que soliciten cupo y lleguen desde el extranjero se les homologará deacuerdo 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NIVELACIÓN DE ESTUDIANTES NUEVOS QUE LLEGAN AVANZADO EL AÑO LECTIVO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os estudiantes que no ingresen desde el primer periodo, deberá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tregar  copia de sus calificaciones a coordinación académica y guardar copia para presentarle a cada uno de los profesores quien le dirá si es necesario que niveles temas y le indicará el proceso para hacerl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eer, analizar y aceptar el manual de conviv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i hay materias que no ha visto deberá validarlas en la forma como le indique el profesor de la asignatu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VALIDACION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CRITERIOS DE GRADUACIÓ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os estudiantes de grado 9º y 11º que aspiren a graduarse, deberán estar a paz y salvo por todo concepto, inclusive, con todas las asignaturas cursadas durante el bachillerato. Grado 11º deberá además estar a paz y salvo con el servicio social del estudian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odo estudiante de grado 11º hasta con 4 áreas perdidas, tendrán un año para recuperar y graduarse por ventanil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os estudiantes de grado 11º hasta con 2 áreas perdidas tendrán otra oportunidad de recuperar antes de la ceremonia, en fecha y hora fijada por la coordinación académica, para que puedan asistir y graduarse en la misma; igual tratamiento se les dará a los estudiantes de grado 9º en éste sentid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INSTITUCIÓN EDUCATIVA PABLO EMILIO CARDON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Carrera 8ª  43-10  Tels. 3365793 – 3293739 -3263210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Garamond"/>
              </a:rPr>
              <a:t>EDUCACIÓN INTEGR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4" descr="IMG_0004"/>
          <p:cNvPicPr/>
          <p:nvPr/>
        </p:nvPicPr>
        <p:blipFill>
          <a:blip r:embed="rId1"/>
          <a:stretch/>
        </p:blipFill>
        <p:spPr>
          <a:xfrm>
            <a:off x="457200" y="2635200"/>
            <a:ext cx="4040280" cy="3030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usuario\Desktop\FOTOS INCLUSIÓN\DCIM\101MSDCF\DSC06389.JPG"/>
          <p:cNvPicPr/>
          <p:nvPr/>
        </p:nvPicPr>
        <p:blipFill>
          <a:blip r:embed="rId2"/>
          <a:stretch/>
        </p:blipFill>
        <p:spPr>
          <a:xfrm>
            <a:off x="4645080" y="2806560"/>
            <a:ext cx="4041720" cy="2687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usuario\Desktop\FERIA 2009\FOTOS FERIA 2009\CIENCIA, TECNOLOGIA Y ARTES\101MSDCF\DSC06899.JPG"/>
          <p:cNvPicPr/>
          <p:nvPr/>
        </p:nvPicPr>
        <p:blipFill>
          <a:blip r:embed="rId3"/>
          <a:stretch/>
        </p:blipFill>
        <p:spPr>
          <a:xfrm>
            <a:off x="4643280" y="2714760"/>
            <a:ext cx="4143600" cy="29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C:\Users\usuario\Desktop\FERIA 2009\FOTOS FERIA 2009\CIENCIA, TECNOLOGIA Y ARTES\101MSDCF\DSC06944.JPG"/>
          <p:cNvPicPr/>
          <p:nvPr/>
        </p:nvPicPr>
        <p:blipFill>
          <a:blip r:embed="rId4"/>
          <a:stretch/>
        </p:blipFill>
        <p:spPr>
          <a:xfrm>
            <a:off x="4643280" y="2714760"/>
            <a:ext cx="43149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CRITERIOS DE REPROBAC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*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Ningún estudiante de transición reprobará el añ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* Los estudiantes hasta grado 10º reprobarán el año con 3 o más áreas perdidas; los de grado 11º lo harán con 5 o más áreas perdid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e pierde un área perdiendo una de las asignaturas que la componen, exceptuando el área técnica en la media donde se promediarán las asignaturas que la compon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ara recuperar un área perdida se recuperará-n la-s asignatura-s con desempeño baj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* Perderán el año los estudiantes que hayan pasado el 25% de inasistencia sin excusa justificad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ESCALA DE VALOR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SUPERIOR: 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4.5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5.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ALTO: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4.0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4.4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BÁSICO: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3.0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3.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SEMPEÑO BAJO: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1.0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600" spc="-1" strike="noStrike">
                <a:solidFill>
                  <a:srgbClr val="ffffff"/>
                </a:solidFill>
                <a:latin typeface="Garamond"/>
              </a:rPr>
              <a:t>2.9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LA ESCALA DE VALOR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ÑO SUPERIO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pera ampliamente los desempeños y profundiza en los contenidos establecidos para las áreas sin actividades complementa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ÑO AL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lcanza eficientemente los desempeños establecidos para las áreas, algunas veces después  de las actividades complementa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LA ESCALA DE VALOR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LO BÁSIC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pera los desempeños mínimos necesarios para su promoción sin o con actividades complementarias en las áreas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EMPEÑO BAJ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supera los desempeños necesarios en relación con las áreas obligatorias y fundamentales aún después de realizar actividades complementa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EVALUACIÓN</a:t>
            </a:r>
            <a:br>
              <a:rPr sz="4400"/>
            </a:br>
            <a:r>
              <a:rPr b="1" lang="es-ES" sz="1000" spc="-1" strike="noStrike">
                <a:solidFill>
                  <a:srgbClr val="b9efee"/>
                </a:solidFill>
                <a:latin typeface="Garamond"/>
              </a:rPr>
              <a:t>(FUENTE:  Informe UNESCO para la educación S. XXI)</a:t>
            </a:r>
            <a:endParaRPr b="1" lang="en-US" sz="1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5" name="4 Marcador de contenido" descr=""/>
          <p:cNvPicPr/>
          <p:nvPr/>
        </p:nvPicPr>
        <p:blipFill>
          <a:blip r:embed="rId1"/>
          <a:stretch/>
        </p:blipFill>
        <p:spPr>
          <a:xfrm>
            <a:off x="1285920" y="1357200"/>
            <a:ext cx="71438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CRITERIOS DE EVALUACIÓN</a:t>
            </a:r>
            <a:br>
              <a:rPr sz="4400"/>
            </a:br>
            <a:r>
              <a:rPr b="1" lang="es-ES" sz="1000" spc="-1" strike="noStrike">
                <a:solidFill>
                  <a:srgbClr val="b9efee"/>
                </a:solidFill>
                <a:latin typeface="Garamond"/>
              </a:rPr>
              <a:t>(INSTITUCIONAL)</a:t>
            </a:r>
            <a:endParaRPr b="1" lang="en-US" sz="1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857160" y="1285920"/>
            <a:ext cx="7398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METAS DE CALIDAD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ERÍODOS ACADÉMIC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esentaremos 4 períodos académicos durante el año de igual dur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 la básica primaria los períodos tendrán igual valor (25% cada uno), pero en secundaria, se valorarán así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rimero y segundo períodos tendrán una valoración del 20% cada uno frente a la nota final; tercero y cuarto tendrán una valoración del 30% frente a la nota final (Las recuperaciones se harán en cada período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nota final se presentará en un 5º inform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¿QUÉ DEBE INCLUIR EL INFORME PERIÓDICO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NCABEZADO CON FOTO DEL ESTUDIA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lumna con Áreas, desempeños (incluye fortalezas o debilidades), recomendaciones y nombre del profes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lumna con información académica numérica (escala institucional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lumna con información de escala cualitativa nacion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pacios para firmas del director de grupo, coordinador o rector, padre de familia y estudiant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b9efee"/>
                </a:solidFill>
                <a:latin typeface="Garamond"/>
              </a:rPr>
              <a:t>ESTRATEGIAS DE APOYO A LOS CRITERIOS DE EVALUACIÓN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ra reforzar en el estudiante su desempeño y responsabilidad en el cumplimiento de sus deberes académicos, utilizaremos </a:t>
            </a:r>
            <a:r>
              <a:rPr b="1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entre otras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, las siguientes estrategia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rá motivo de citación del padre de familia o acudiente del estudiante por parte de directivos o docente de área o asignatur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no presentación justificada de una evaluación, así sea de recupe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FILOSOFÍA, MISIÓN Y VISIÓ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ILOSOFÍ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SIÓ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VISIÓ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El incumplimiento sistemático en sus deberes académicos que a criterio del coordinador o profesor, amerite la citación del padre o acudien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a inasistencia a la institución sin excusa justificad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a práctica de antivalores que atentan contra su formación integral, su autoestima y/ó la de los demás, a criterio del coordinador o director de grup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Un estudiante que llegue tarde a clase sin justificación alguna, deberá esperar hasta el siguiente período de clase para poder ingresar al aula, mientras tanto deberá desarrollar actividades académicas ó pedagógicas asignadas por el coordinad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studiante que interfiera la clase y no atienda el primer llamado de atención del profesor, será excluido de ésta y deberá durante el resto del período de clase desarrollar actividades académicas o pedagógicas asignadas por el coordinad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os estudiantes que sobresalgan académica y comportamentalmente serán exaltados en un cuadro de honor y felicitados públicamente, después de analizado cada período por el consejo académ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estudiantes más sobresalientes serán tenidos en cuenta para representar la institución en eventos académicos, culturales o deportivos y/o para otra clase de  estímulos que se acuerden en los  consejos académico ó direc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ocer desde principio de año los contenidos y logros por competencia en cada una de las asignatur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levar  siempre a sus clases el cuaderno de seguimiento como medio de comunicación con el padre de familia o acudiente quien debe revisarlo, leer las anotaciones y firmarl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ugerir a cada docente que implemente con los estudiantes más sobresalientes, monitores para que adopten un estudiante con dificultades académicas  y lo ayuden a superar sus deficiencias (Solidaridad, colaboración, compañerismo y trabajo en equipo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ESTRATEGIAS DE APOYO A LOS CRITERIOS DE EVALUACIÓN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aborar, revisar y autoevaluar el proyecto de vida de cada estudiante como parte integral de formación hacia el futur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anear y desarrollar  periódicamente la feria de la ciencia, la creatividad, y el emprendimiento como medio de visualización para crear empresa en busca de una mejor calidad de vida y generación de empleo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9efee"/>
                </a:solidFill>
                <a:latin typeface="Garamond"/>
              </a:rPr>
              <a:t>CRITERIOS DE NO RENOVACIÓN DE MATRÍCULA  (CONTINUACIÓN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Son criterios para no renovarle la matrícula a un estudiante, los siguien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* La inasistencia de los padres de familia a las reuniones periódicas para entrega de informes académicos y a los incumplimientos por citaciones para manejo de conflictos con sus hij@s o acudid@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pérdida del comportamiento social de estudiante por más de 2 períodos lectivos continuos o discontinu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just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inasistencia recurrente del estudiante sin causa justificad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b9efee"/>
                </a:solidFill>
                <a:latin typeface="Garamond"/>
              </a:rPr>
              <a:t>CRITERIOS DE NO RENOVACIÓN DE MATRÍCULA  (CONTINUACIÓN)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 pérdida de dos años consecutiv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9efee"/>
                </a:solidFill>
                <a:latin typeface="Garamond"/>
              </a:rPr>
              <a:t>RESOLUCIÓN DE APROBACIÓ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E ACUERDO DE EVALUACIÓN  HA SIDO ANALIZADO Y APROBADO POR LA COMUNIDAD EDUCATIVA, EL CONSEJO ACADÉMICO Y VALIDADO MEDIANTE LA ACUERDO No.  003 del 4 DE DICIEMBRE DE 2009     POR EL CONSEJO DIRECTIVO DE LA INSTITU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INCLUSION PARA TODO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2" descr="C:\Users\usuario\Desktop\FOTOS INCLUSIÓN\DCIM\101MSDCF\DSC06389.JPG"/>
          <p:cNvPicPr/>
          <p:nvPr/>
        </p:nvPicPr>
        <p:blipFill>
          <a:blip r:embed="rId1"/>
          <a:stretch/>
        </p:blipFill>
        <p:spPr>
          <a:xfrm>
            <a:off x="1190520" y="1600200"/>
            <a:ext cx="67629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HOJA DE VIDA DE  LA INSTITUC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FUNDADO EN 1948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CARACTER. OFICI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ESTUDIANTES  1. 020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DOCENTES  4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MODALIDAD. CONTABILIDAD Y SISTEMAS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RECTOR . JAIME DARIO DE LA ROCH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DIRECCION ,CRA 8 43 -10 . TEL , 3263210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MX" sz="2800" spc="-1" strike="noStrike">
                <a:solidFill>
                  <a:srgbClr val="ffffff"/>
                </a:solidFill>
                <a:latin typeface="Garamond"/>
              </a:rPr>
              <a:t>3365793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b9efee"/>
                </a:solidFill>
                <a:latin typeface="Garamond"/>
              </a:rPr>
              <a:t>MARCO LEGAL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CONSTITUCION POLITICA DEL. 91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LEY GENERAL DE EDUCACION. DEL . 94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DECRETO 2082 DEL  96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Garamond"/>
              </a:rPr>
              <a:t>RESOLUCION 25 65 DE 2.00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5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0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b9efee"/>
                </a:solidFill>
                <a:latin typeface="Garamond"/>
              </a:rPr>
              <a:t>GARANTIZAR EL DERECHO A LA IGUALDAD DE OPORTUNIDADE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68000" y="4365720"/>
            <a:ext cx="6048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Garamond"/>
              </a:rPr>
              <a:t>A LOS NIÑOS ,NIÑAS Y JOVENES EN  SITUACION DE DISCAPACIDAD VISU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6" descr="P4130106"/>
          <p:cNvPicPr/>
          <p:nvPr/>
        </p:nvPicPr>
        <p:blipFill>
          <a:blip r:embed="rId1"/>
          <a:stretch/>
        </p:blipFill>
        <p:spPr>
          <a:xfrm>
            <a:off x="6300720" y="3716280"/>
            <a:ext cx="2679840" cy="3141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C:\Users\usuario\Desktop\FOTOS INCLUSIÓN\DCIM\101MSDCF\DSC06576.JPG"/>
          <p:cNvPicPr/>
          <p:nvPr/>
        </p:nvPicPr>
        <p:blipFill>
          <a:blip r:embed="rId2"/>
          <a:stretch/>
        </p:blipFill>
        <p:spPr>
          <a:xfrm>
            <a:off x="6286680" y="3643200"/>
            <a:ext cx="2743200" cy="32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INSTITUCIÓN EDUCATIVA PABLO EMILO CARDON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ffffff"/>
                </a:solidFill>
                <a:latin typeface="Garamond"/>
              </a:rPr>
              <a:t>ACUERDO DE EVALAUCIÓN  DEC. 1290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¿QUÉ ES LA EVALAUCIÓN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8T22:50:42Z</dcterms:created>
  <dc:creator>HP Authorized Customer</dc:creator>
  <dc:description/>
  <dc:language>en-US</dc:language>
  <cp:lastModifiedBy>RECTOR</cp:lastModifiedBy>
  <dcterms:modified xsi:type="dcterms:W3CDTF">2010-07-15T23:52:27Z</dcterms:modified>
  <cp:revision>119</cp:revision>
  <dc:subject/>
  <dc:title>PABLO EMILIO CARDONA</dc:title>
</cp:coreProperties>
</file>