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ED63-C387-4380-BEC8-FA9FB271474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50AC-A13B-453D-A226-0B012AE70572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436B-7D72-405F-B182-6CADA9F2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F6F-05E2-4CD3-9B6C-EFDABB87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8E4-78EA-4762-B6F1-6BAAE424E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4FD2-BB97-43FF-9F9C-15932548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9841-B47D-495C-8777-41DE3A27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6847-FC7F-4FA1-973C-7A650042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048FB-2949-4A43-9BDA-98654687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0B86-A795-4755-815D-9D51EE41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653B-466F-441E-A7D2-05D416DA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6C7F-9E31-453B-8C51-BCB8A4B2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36A3A-4978-4770-9DD9-92387B51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0C50-3F6B-4952-B957-3C9E9FDF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6CD8-9E4B-4775-ACEB-73D934A4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59FD-F222-423E-B06D-EDE27DAB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903E-1077-4C5D-9D49-F427407A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1D64-E295-4D93-BE20-13320396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CF71-09E6-400B-B8F5-E0085BCF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FDD7-8E73-4691-BCDE-9F60C5A2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D820-0456-40D4-B425-65B16299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2DDE-BB5E-41D3-98B2-DD829978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9609-B1E5-4A9B-A543-CAB3542B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2FAC-AE76-4EC7-8C19-C4317EFB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9303-EF9C-4C4E-9205-D15C6AD8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DAA-EFBD-4B0A-BC8E-08295AA9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9D49-8B8A-4E0F-AF4A-02B1E44E7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1EA2-9456-4109-B83C-C7029A3359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b9efee"/>
                </a:solidFill>
                <a:latin typeface="Garamond"/>
              </a:rPr>
              <a:t>PABLO EMILIO CARDONA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UNA INSTITUCION PARA TODOS EN EL MARCO DE LA DIVER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LA EVALUACIÓN SERÁ PARTICIPATIV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VALUACIÓN: (% 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UTOEVALUACIÓN: (% 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HETEROEVALUACIÓN: (% 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COMITÉ DE EVALUACIÓN Y PROMOCIÓ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NOMBRADO POR EL CONSEJO ACADÉMICO Y ESTARÁ CONFORMADO PO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CRITERIOS DE PROMOCIÓ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 promueven todos los estudiantes que hayan perdido  hasta 2 áreas, excepto en grados 1ro y 2do donde se pierde el año reprobando Español y matemáticas (a éste grupo de estudiantes de todos modos se les da la oportunidad de recuperar las áreas perdidas en enero del año siguiente, quienes saldrán a vacaciones con un trabajo por desarrollar (Temario ó cuestionario en el caso de bachillerato y guías en el caso de primaria); igualmente podrán recuperar en éste periodo del año las materias pendientes de años anteriores que no hayan podido supera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CRITERIOS DE PROMOCIÓN (CONTINUACIÓN)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os estudiantes con dificultades cognitivas detectadas, invidentes y baja visión, tendrán las consideraciones especiales del consejo académico, realizándoles adecuaciones curriculares y acompañamiento  por parte de sus pad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PROMOCIÓN ANTICIPAD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PROMOCIÓN POSTERIO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HOMOLOGACION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os estudiantes que soliciten cupo y lleguen desde el extranjero se les homologará deacuerdo 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9efee"/>
                </a:solidFill>
                <a:latin typeface="Garamond"/>
              </a:rPr>
              <a:t>NIVELACIÓN DE ESTUDIANTES NUEVOS QUE LLEGAN AVANZADO EL AÑO LECTIVO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os estudiantes que no ingresen desde el primer periodo, deberá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tregar  copia de sus calificaciones a coordinación académica y guardar copia para presentarle a cada uno de los profesores quien le dirá si es necesario que niveles temas y le indicará el proceso para hacerlo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eer, analizar y aceptar el manual de convivenc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i hay materias que no ha visto deberá validarlas en la forma como le indique el profesor de la asignatur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VALIDACION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9efee"/>
                </a:solidFill>
                <a:latin typeface="Garamond"/>
              </a:rPr>
              <a:t>CRITERIOS DE GRADUACIÓ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Los estudiantes de grado 9º y 11º que aspiren a graduarse, deberán estar a paz y salvo por todo concepto, inclusive, con todas las asignaturas cursadas durante el bachillerato. Grado 11º deberá además estar a paz y salvo con el servicio social del estudiant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Todo estudiante de grado 11º hasta con 4 áreas perdidas, tendrán un año para recuperar y graduarse por ventanill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Los estudiantes de grado 11º hasta con 2 áreas perdidas tendrán otra oportunidad de recuperar antes de la ceremonia, en fecha y hora fijada por la coordinación académica, para que puedan asistir y graduarse en la misma; igual tratamiento se les dará a los estudiantes de grado 9º en éste sentid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INSTITUCIÓN EDUCATIVA PABLO EMILIO CARDON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Carrera 8ª  43-10  Tels. 3365793 – 3293739 -326321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EDUCACIÓN INTEGR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4" descr="IMG_0004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Users\usuario\Desktop\FOTOS INCLUSIÓN\DCIM\101MSDCF\DSC06389.JPG"/>
          <p:cNvPicPr/>
          <p:nvPr/>
        </p:nvPicPr>
        <p:blipFill>
          <a:blip r:embed="rId2"/>
          <a:stretch/>
        </p:blipFill>
        <p:spPr>
          <a:xfrm>
            <a:off x="4645080" y="2806560"/>
            <a:ext cx="4041720" cy="2687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usuario\Desktop\FERIA 2009\FOTOS FERIA 2009\CIENCIA, TECNOLOGIA Y ARTES\101MSDCF\DSC06899.JPG"/>
          <p:cNvPicPr/>
          <p:nvPr/>
        </p:nvPicPr>
        <p:blipFill>
          <a:blip r:embed="rId3"/>
          <a:stretch/>
        </p:blipFill>
        <p:spPr>
          <a:xfrm>
            <a:off x="4643280" y="2714760"/>
            <a:ext cx="4143600" cy="291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Users\usuario\Desktop\FERIA 2009\FOTOS FERIA 2009\CIENCIA, TECNOLOGIA Y ARTES\101MSDCF\DSC06944.JPG"/>
          <p:cNvPicPr/>
          <p:nvPr/>
        </p:nvPicPr>
        <p:blipFill>
          <a:blip r:embed="rId4"/>
          <a:stretch/>
        </p:blipFill>
        <p:spPr>
          <a:xfrm>
            <a:off x="4643280" y="2714760"/>
            <a:ext cx="4314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9efee"/>
                </a:solidFill>
                <a:latin typeface="Garamond"/>
              </a:rPr>
              <a:t>CRITERIOS DE REPROBACIO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Ningún estudiante de transición reprobará el añ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* Los estudiantes hasta grado 10º reprobarán el año con 3 o más áreas perdidas; los de grado 11º lo harán con 5 o más áreas perdid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Se pierde un área perdiendo una de las asignaturas que la componen, exceptuando el área técnica en la media donde se promediarán las asignaturas que la compone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Para recuperar un área perdida se recuperará-n la-s asignatura-s con desempeño baj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* Perderán el año los estudiantes que hayan pasado el 25% de inasistencia sin excusa justificad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ESCALA DE VALOR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SEMPEÑO SUPERIOR: 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4.5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5.0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SEMPEÑO ALTO: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4.0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4.4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SEMPEÑO BÁSICO: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3.0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3.9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SEMPEÑO BAJO: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1.0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2.9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CRITERIOS DE LA ESCALA DE VALOR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SEMPEÑO SUPERIO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upera ampliamente los desempeños y profundiza en los contenidos establecidos para las áreas sin actividades complementari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SEMPEÑO ALT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lcanza eficientemente los desempeños establecidos para las áreas, algunas veces después  de las actividades complementari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CRITERIOS DE LA ESCALA DE VALOR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SEMPELO BÁSIC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upera los desempeños mínimos necesarios para su promoción sin o con actividades complementarias en las áreas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SEMPEÑO BAJ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supera los desempeños necesarios en relación con las áreas obligatorias y fundamentales aún después de realizar actividades complementari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CRITERIOS DE EVALUACIÓN</a:t>
            </a:r>
            <a:br>
              <a:rPr sz="4400"/>
            </a:br>
            <a:r>
              <a:rPr b="1" lang="es-ES" sz="1000" spc="-1" strike="noStrike">
                <a:solidFill>
                  <a:srgbClr val="b9efee"/>
                </a:solidFill>
                <a:latin typeface="Garamond"/>
              </a:rPr>
              <a:t>(FUENTE:  Informe UNESCO para la educación S. XXI)</a:t>
            </a:r>
            <a:endParaRPr b="1" lang="en-US" sz="1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5" name="4 Marcador de contenido" descr=""/>
          <p:cNvPicPr/>
          <p:nvPr/>
        </p:nvPicPr>
        <p:blipFill>
          <a:blip r:embed="rId1"/>
          <a:stretch/>
        </p:blipFill>
        <p:spPr>
          <a:xfrm>
            <a:off x="1285920" y="1357200"/>
            <a:ext cx="71438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CRITERIOS DE EVALUACIÓN</a:t>
            </a:r>
            <a:br>
              <a:rPr sz="4400"/>
            </a:br>
            <a:r>
              <a:rPr b="1" lang="es-ES" sz="1000" spc="-1" strike="noStrike">
                <a:solidFill>
                  <a:srgbClr val="b9efee"/>
                </a:solidFill>
                <a:latin typeface="Garamond"/>
              </a:rPr>
              <a:t>(INSTITUCIONAL)</a:t>
            </a:r>
            <a:endParaRPr b="1" lang="en-US" sz="1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857160" y="1285920"/>
            <a:ext cx="7398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METAS DE CALIDAD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PERÍODOS ACADÉMICO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sentaremos 4 períodos académicos durante el año de igual durac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 la básica primaria los períodos tendrán igual valor (25% cada uno), pero en secundaria, se valorarán así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imero y segundo períodos tendrán una valoración del 20% cada uno frente a la nota final; tercero y cuarto tendrán una valoración del 30% frente a la nota final (Las recuperaciones se harán en cada período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nota final se presentará en un 5º infor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¿QUÉ DEBE INCLUIR EL INFORME PERIÓDICO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CABEZADO CON FOTO DEL ESTUDIANT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lumna con Áreas, desempeños (incluye fortalezas o debilidades), recomendaciones y nombre del profes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lumna con información académica numérica (escala institucional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lumna con información de escala cualitativa nacion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pacios para firmas del director de grupo, coordinador o rector, padre de familia y estudiant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b9efee"/>
                </a:solidFill>
                <a:latin typeface="Garamond"/>
              </a:rPr>
              <a:t>ESTRATEGIAS DE APOYO A LOS CRITERIOS DE EVALUACIÓN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ara reforzar en el estudiante su desempeño y responsabilidad en el cumplimiento de sus deberes académicos, utilizaremo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entre otra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, las siguientes estrategia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rá motivo de citación del padre de familia o acudiente del estudiante por parte de directivos o docente de área o asignatur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 no presentación justificada de una evaluación, así sea de recuper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9efee"/>
                </a:solidFill>
                <a:latin typeface="Garamond"/>
              </a:rPr>
              <a:t>FILOSOFÍA, MISIÓN Y VISIÓ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ILOSOFÍ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ISIÓ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VISIÓ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9efee"/>
                </a:solidFill>
                <a:latin typeface="Garamond"/>
              </a:rPr>
              <a:t>ESTRATEGIAS DE APOYO A LOS CRITERIOS DE EVALUACIÓN (Continuación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El incumplimiento sistemático en sus deberes académicos que a criterio del coordinador o profesor, amerite la citación del padre o acudient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La inasistencia a la institución sin excusa justificad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La práctica de antivalores que atentan contra su formación integral, su autoestima y/ó la de los demás, a criterio del coordinador o director de grup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Un estudiante que llegue tarde a clase sin justificación alguna, deberá esperar hasta el siguiente período de clase para poder ingresar al aula, mientras tanto deberá desarrollar actividades académicas ó pedagógicas asignadas por el coordinad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9efee"/>
                </a:solidFill>
                <a:latin typeface="Garamond"/>
              </a:rPr>
              <a:t>ESTRATEGIAS DE APOYO A LOS CRITERIOS DE EVALUACIÓN (Continuación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udiante que interfiera la clase y no atienda el primer llamado de atención del profesor, será excluido de ésta y deberá durante el resto del período de clase desarrollar actividades académicas o pedagógicas asignadas por el coordinad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os estudiantes que sobresalgan académica y comportamentalmente serán exaltados en un cuadro de honor y felicitados públicamente, después de analizado cada período por el consejo académic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9efee"/>
                </a:solidFill>
                <a:latin typeface="Garamond"/>
              </a:rPr>
              <a:t>ESTRATEGIAS DE APOYO A LOS CRITERIOS DE EVALUACIÓN (Continuación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os estudiantes más sobresalientes serán tenidos en cuenta para representar la institución en eventos académicos, culturales o deportivos y/o para otra clase de  estímulos que se acuerden en los  consejos académico ó direc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ocer desde principio de año los contenidos y logros por competencia en cada una de las asignatur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9efee"/>
                </a:solidFill>
                <a:latin typeface="Garamond"/>
              </a:rPr>
              <a:t>ESTRATEGIAS DE APOYO A LOS CRITERIOS DE EVALUACIÓN (Continuación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levar  siempre a sus clases el cuaderno de seguimiento como medio de comunicación con el padre de familia o acudiente quien debe revisarlo, leer las anotaciones y firmarl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ugerir a cada docente que implemente con los estudiantes más sobresalientes, monitores para que adopten un estudiante con dificultades académicas  y lo ayuden a superar sus deficiencias (Solidaridad, colaboración, compañerismo y trabajo en equipo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9efee"/>
                </a:solidFill>
                <a:latin typeface="Garamond"/>
              </a:rPr>
              <a:t>ESTRATEGIAS DE APOYO A LOS CRITERIOS DE EVALUACIÓN (Continuación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aborar, revisar y autoevaluar el proyecto de vida de cada estudiante como parte integral de formación hacia el futur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lanear y desarrollar  periódicamente la feria de la ciencia, la creatividad, y el emprendimiento como medio de visualización para crear empresa en busca de una mejor calidad de vida y generación de empleo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9efee"/>
                </a:solidFill>
                <a:latin typeface="Garamond"/>
              </a:rPr>
              <a:t>CRITERIOS DE NO RENOVACIÓN DE MATRÍCULA  (CONTINUACIÓN)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on criterios para no renovarle la matrícula a un estudiante, los siguient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* La inasistencia de los padres de familia a las reuniones periódicas para entrega de informes académicos y a los incumplimientos por citaciones para manejo de conflictos con sus hij@s o acudid@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pérdida del comportamiento social de estudiante por más de 2 períodos lectivos continuos o discontinu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inasistencia recurrente del estudiante sin causa justificad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9efee"/>
                </a:solidFill>
                <a:latin typeface="Garamond"/>
              </a:rPr>
              <a:t>CRITERIOS DE NO RENOVACIÓN DE MATRÍCULA  (CONTINUACIÓN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 pérdida de dos años consecutiv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9efee"/>
                </a:solidFill>
                <a:latin typeface="Garamond"/>
              </a:rPr>
              <a:t>RESOLUCIÓN DE APROBACIÓ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TE ACUERDO DE EVALUACIÓN  HA SIDO ANALIZADO Y APROBADO POR LA COMUNIDAD EDUCATIVA, EL CONSEJO ACADÉMICO Y VALIDADO MEDIANTE LA ACUERDO No.  003 del 4 DE DICIEMBRE DE 2009     POR EL CONSEJO DIRECTIVO DE LA INSTITU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INCLUSION PARA TODO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2" descr="C:\Users\usuario\Desktop\FOTOS INCLUSIÓN\DCIM\101MSDCF\DSC06389.JPG"/>
          <p:cNvPicPr/>
          <p:nvPr/>
        </p:nvPicPr>
        <p:blipFill>
          <a:blip r:embed="rId1"/>
          <a:stretch/>
        </p:blipFill>
        <p:spPr>
          <a:xfrm>
            <a:off x="1190520" y="1600200"/>
            <a:ext cx="6762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b9efee"/>
                </a:solidFill>
                <a:latin typeface="Garamond"/>
              </a:rPr>
              <a:t>HOJA DE VIDA DE  LA INSTITUC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FUNDADO EN 194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CARACTER. OFICI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ESTUDIANTES  1. 020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DOCENTES  4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MODALIDAD. CONTABILIDAD Y SISTEMAS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RECTOR . JAIME DARIO DE LA ROCH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DIRECCION ,CRA 8 43 -10 . TEL , 3263210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336579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b9efee"/>
                </a:solidFill>
                <a:latin typeface="Garamond"/>
              </a:rPr>
              <a:t>MARCO LEGAL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CONSTITUCION POLITICA DEL. 91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LEY GENERAL DE EDUCACION. DEL . 94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DECRETO 2082 DEL  96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RESOLUCION 25 65 DE 2.003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b9efee"/>
                </a:solidFill>
                <a:latin typeface="Garamond"/>
              </a:rPr>
              <a:t>GARANTIZAR EL DERECHO A LA IGUALDAD DE OPORTUNIDADE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68000" y="4365720"/>
            <a:ext cx="6048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A LOS NIÑOS ,NIÑAS Y JOVENES EN  SITUACION DE DISCAPACIDAD VISU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6" descr="P4130106"/>
          <p:cNvPicPr/>
          <p:nvPr/>
        </p:nvPicPr>
        <p:blipFill>
          <a:blip r:embed="rId1"/>
          <a:stretch/>
        </p:blipFill>
        <p:spPr>
          <a:xfrm>
            <a:off x="6300720" y="3716280"/>
            <a:ext cx="2679840" cy="3141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C:\Users\usuario\Desktop\FOTOS INCLUSIÓN\DCIM\101MSDCF\DSC06576.JPG"/>
          <p:cNvPicPr/>
          <p:nvPr/>
        </p:nvPicPr>
        <p:blipFill>
          <a:blip r:embed="rId2"/>
          <a:stretch/>
        </p:blipFill>
        <p:spPr>
          <a:xfrm>
            <a:off x="6286680" y="3643200"/>
            <a:ext cx="2743200" cy="321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INSTITUCIÓN EDUCATIVA PABLO EMILO CARDON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ffff"/>
                </a:solidFill>
                <a:latin typeface="Garamond"/>
              </a:rPr>
              <a:t>ACUERDO DE EVALAUCIÓN  DEC. 1290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¿QUÉ ES LA EVALAUCIÓN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22:50:42Z</dcterms:created>
  <dc:creator>HP Authorized Customer</dc:creator>
  <dc:description/>
  <dc:language>en-US</dc:language>
  <cp:lastModifiedBy>RECTOR</cp:lastModifiedBy>
  <dcterms:modified xsi:type="dcterms:W3CDTF">2010-07-15T23:52:27Z</dcterms:modified>
  <cp:revision>119</cp:revision>
  <dc:subject/>
  <dc:title>PABLO EMILIO CARDONA</dc:title>
</cp:coreProperties>
</file>